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078-836E-4557-8AB0-2E4AE90D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02B-51D4-4261-834B-F5A404F7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FC8DD-3857-47AD-98AA-FCCD8ECE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01895-2935-41B3-B33E-5B7DAFCF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9EB3A-4001-4065-82F9-BA3AB698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CD30A-CD9E-42ED-B3F6-B23BD02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8D97C-B347-4F91-9B68-7411551D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0319E-A485-410F-BB2F-2408BF7C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937D6-A26D-4415-B254-C32285FE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24DC0-67F2-4FA7-BAFF-10FA00B4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F4111-1490-4CC8-8631-BA58E738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432DD-F2E9-49C4-9BBC-7A7E8E3D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E56-CC3C-4960-8058-D5BC9313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9B24A-569C-4D9E-BF6D-14BF3DA4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A0153-6C5E-4B16-8A7C-B28D6C8F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F72A2-0A27-4B89-91C3-B5D04925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45105-8AD1-4DCA-B1D1-9AA84F06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671B5-7F38-4357-8A04-EC3FB293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13DE2-6FC0-4991-8C52-EA1873D3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B5432-6BD2-484A-BCA3-2E6CC56C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E8BF8-F429-4BB9-A512-35937A26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8DCAF-7A3D-47B6-8965-F974D085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8D1A0-7814-4BE4-A0F3-5D27AD30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347-B708-444A-8B23-73F7DBC8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7A2EE-278E-4CB9-A107-F78B5EE7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FAF8F-D846-4B3C-AD91-A1A89E90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4A7D7-6AB1-411E-B876-7A878847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76D17-8D80-4590-B413-99481A2D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E4105-FA35-475A-A647-8D27C0CA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F8608-016E-437E-A3BB-F7F2EBD4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8E77C-414F-415B-BCA1-D4BE862D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A59AD-9023-4353-A303-523863AD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D9030-1791-4480-9476-6FDA6539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F791E-B7C8-4A4B-9A3A-E9F11E81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450A-FAEF-4866-9FCC-886F458D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66473-7EA9-40F1-8CE9-508C7DD3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25E33-4176-459C-BA1C-39652374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7FE79-A747-422D-853A-A70BE614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270C2-748F-467D-BA9C-83CB1A35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835F0-E651-4BC3-A672-72210E9F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ABA0A-DF94-4AAE-8AB7-D792816D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74D5F-EF33-416F-B7DA-DF72E695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689DD-4C95-4F5A-90F8-83D85A21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15DAD-1DC1-4E2A-B9D9-8865412E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67B84-E923-4616-A23A-0016486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4CE0-EB97-4BC6-B258-3823C168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23BC3-3AC8-4039-8DDA-D1FAC232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2825B-BAEF-4969-9623-B343CC26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6B43D-226E-48C2-ACBC-67B5F374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67B85-15EA-4824-8ADC-BDFE99B5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23359-4CBE-49C6-ABDB-56308692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B26A4-126A-4326-872F-B059AAD7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6D74A-5F3C-47E2-B279-2F963DB1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58C49-F465-4818-BE21-064637CF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44877-9FE5-4796-84E8-B195039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96798-7C92-44D9-9EB1-778A2AF0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2B2B-B920-472C-ADC9-58D3A6AB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35E15-8335-442C-BF94-ABB9CE85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AE0EB-8CA8-4C6E-940B-F21C5AD6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ACC8B-45D9-4793-9FD8-1F067465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979D4-BD92-4C5A-9E95-5B4E3278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46EEF-F031-4DC9-94C8-16EE9869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394A7-D131-4134-A09B-EAFB15FA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1AF7D-5C32-4BAC-9C3D-F8B3DBF6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46C9-58A0-4C36-8A9E-C47B5970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12C7-8726-47D1-9FC9-91A7959E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3BCE-D3A8-465C-8930-59EA477D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BB98-A92C-4F1F-B37D-EB559630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DC3-D420-47FA-9E5A-D095703B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E328-2198-4950-9029-99ABEBE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53FD-5FF1-447F-B4FF-90E21179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5B3B-69E5-491F-91EF-AE9E7666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018C-A7D8-48D5-BF0E-3ED94322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7B2B-D9FC-4297-809A-F3B0D1F7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7DAA-640C-401C-8A1C-AB2672BA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401F7-7DFF-4F39-9935-16863D99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3300-BA03-44B9-A00E-2A68562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8ED2-EE3A-4FDA-B0DA-2D72D88E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971C4-DF3A-46FB-8C90-9BBC473F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98D-FF0D-438F-B313-8D58C11C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B6A3-BCB8-4D08-B272-89095BCF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1989C-9A18-40B1-AFA2-86C41B1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1E55-D9CF-47CB-8DE2-AFE5BFFC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AAAC-A3BA-4BB4-ACA9-3F51D5B5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E9BD-4C78-4345-B829-C1374767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83C0-0343-4E1C-9674-7388B62C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1C6C-2364-497B-A4CC-EDCD9B1B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6FA4-F733-46C5-B2B5-2BCAB845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35139-0E91-4F9E-A29A-6CAE1277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51567-324B-4173-99DF-C24E50C5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1A1-8D7A-4788-8F3D-C0F64059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F57C9-44F3-4EB2-9004-6B858535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E5B1-9DD7-4410-AAB1-43F9D952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432B-EEBC-4FDF-8582-DCA047FF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2228-68F9-4B70-BC5C-0E9CE500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F5210-9133-47BC-A311-8E0AA504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BCF5F-7C8F-48BE-845F-7E909096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1252-6D8C-4CB6-855D-4BE64972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655C-9A65-4BBE-8482-DFB17EBF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5159-2163-4014-8A16-45CA3A9C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380FC-C511-42DA-8CE2-C83F90E3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47E-8800-4F91-93E5-C207B4AB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4BA0D-C355-47AE-9BC0-23EA1159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468DE-BD4A-4272-B11C-3F29636A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BB32A-800A-43F1-9F9E-E08E4601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DFC85-6418-4C7F-BCBD-7D931C81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14773-5E1C-4041-BED7-3B56D08B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5F28D-2EC8-416D-99EA-F004D82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E6071-3709-4953-A157-6A4A5422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94890-0A37-473C-996A-5C0A2702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CB7E-FC72-4BC9-B61F-5DFD8F1B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E9780-8257-4B98-91B1-DFB5C6F2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442-D08C-4D50-8AD9-5397660B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F593-1C13-4F2A-BF5E-F8DFCB5B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ACDEF-C65C-47F5-A442-01C3AA01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EA7C7-A343-417B-B149-41597A80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BEA78-F47B-409B-9341-4D508EF5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AD592-2D1C-4004-BDDF-7A55B8FE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4B3CA-E98A-4646-A739-66503142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2FCCB-C4AA-4959-83BB-76F5E8CE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6C81E-5F87-483B-8D8C-9C10A49F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7289B-2E30-46A4-8B0D-7F908A5A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23494-05EC-4E65-ABF3-0C10A84A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C9D-5A29-40A8-9B05-FB430888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395E1-486D-4C51-BE5D-3427CAC9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8FBDB-7A99-4556-971F-F88090FE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45585-63F2-4278-B2EA-AB690F7F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7F946-D7E2-49F7-95D7-7C387813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36E4E-942F-46BB-9F5C-492A0E54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01251-A76A-49D2-94F1-BCDB32E1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E93CD-D82C-4393-8148-6F68060D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F4D95-0C11-4FCD-B6B8-BBE5A1FF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90894-B998-4627-B9B2-3998F371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DAACD-8134-4616-B5FF-F5F0C9A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5DA-2271-4E93-9F36-66A9534E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8F602-B0EC-4F20-A48E-7CE64362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DB71C-8B61-411C-9589-3370C94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34F57-567B-40C2-B66B-39D009A6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69118-12C8-4B03-B272-F3F793FE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AF1F3-8B19-4EA7-B141-478FCFD9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F2F46-EA2F-464C-B1EE-3F369F65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7B8EF-AF60-4602-93C5-B85E0794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7212E-A743-441D-88E6-75B95F58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381B6-0452-4206-96B2-0255810A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66BDC-77E5-428F-9EDE-FE0D9E6B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66C-ACCF-4415-A7FE-CF583E5C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7ED74-2947-4A3E-88DF-915DD298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12694-D236-4B96-8FBE-C0F1996D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33E1E-2FC9-4D69-882C-AD80A1A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81B4A-3CB8-43E1-AD21-F8E7872A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6749D-4C3C-47C4-B2FC-9FFFF910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B395C-EDF4-48AB-909D-BEAEDA63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A3A63-017B-466F-B081-43BCE7C5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91918-BD09-4E37-B03B-3A6F91A4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2329F-3E3A-42E5-A746-D7D0D9A7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1BC17-3D77-4A91-9929-EB0C5AD2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3242-E75B-4235-A19F-89975EDD1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7D70-C9CE-454E-90A6-3DA9F9C319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FC87-63C4-4A79-A140-E9F72815A70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5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C445-6E77-4BC0-BCC0-D74103D659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B30-2C52-4B45-A6AD-DDF4B0D928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2A16-1FD8-4AB9-84AE-CF458CABA3A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80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2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9E77-1EE4-4623-94B9-2C261E2AA2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7F69-AC0C-4235-9F95-AD5FCFF78C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1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1285-FF5A-48A7-93FB-CE8FFBE36F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1E7F-76D9-477D-94DC-99F2E0C637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4F74-B5C2-4865-BE8D-258F37BC85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67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7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9BF0-84E2-48C4-AE6C-B4A6CF5FFC2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2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FB39-6770-4E5B-B71B-C5E8BFF39E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6.xml"/><Relationship Id="rId22" Type="http://schemas.openxmlformats.org/officeDocument/2006/relationships/slide" Target="slide27.xml"/><Relationship Id="rId23" Type="http://schemas.openxmlformats.org/officeDocument/2006/relationships/slide" Target="slide28.xml"/><Relationship Id="rId24" Type="http://schemas.openxmlformats.org/officeDocument/2006/relationships/slide" Target="slide29.xml"/><Relationship Id="rId25" Type="http://schemas.openxmlformats.org/officeDocument/2006/relationships/slide" Target="slide30.xml"/><Relationship Id="rId26" Type="http://schemas.openxmlformats.org/officeDocument/2006/relationships/slide" Target="slide31.xml"/><Relationship Id="rId27" Type="http://schemas.openxmlformats.org/officeDocument/2006/relationships/slide" Target="slide38.xml"/><Relationship Id="rId28" Type="http://schemas.openxmlformats.org/officeDocument/2006/relationships/slide" Target="slide39.xml"/><Relationship Id="rId29" Type="http://schemas.openxmlformats.org/officeDocument/2006/relationships/slide" Target="slide40.xml"/><Relationship Id="rId30" Type="http://schemas.openxmlformats.org/officeDocument/2006/relationships/slide" Target="slide41.xml"/><Relationship Id="rId31" Type="http://schemas.openxmlformats.org/officeDocument/2006/relationships/slide" Target="slide42.xml"/><Relationship Id="rId32" Type="http://schemas.openxmlformats.org/officeDocument/2006/relationships/slide" Target="slide43.xml"/><Relationship Id="rId33" Type="http://schemas.openxmlformats.org/officeDocument/2006/relationships/slide" Target="slide50.xml"/><Relationship Id="rId34" Type="http://schemas.openxmlformats.org/officeDocument/2006/relationships/slide" Target="slide51.xml"/><Relationship Id="rId35" Type="http://schemas.openxmlformats.org/officeDocument/2006/relationships/slide" Target="slide52.xml"/><Relationship Id="rId36" Type="http://schemas.openxmlformats.org/officeDocument/2006/relationships/slide" Target="slide53.xml"/><Relationship Id="rId37" Type="http://schemas.openxmlformats.org/officeDocument/2006/relationships/slide" Target="slide54.xml"/><Relationship Id="rId38" Type="http://schemas.openxmlformats.org/officeDocument/2006/relationships/slide" Target="slide55.xml"/><Relationship Id="rId39" Type="http://schemas.openxmlformats.org/officeDocument/2006/relationships/slide" Target="slide62.xml"/><Relationship Id="rId40" Type="http://schemas.openxmlformats.org/officeDocument/2006/relationships/slide" Target="slide63.xml"/><Relationship Id="rId41" Type="http://schemas.openxmlformats.org/officeDocument/2006/relationships/slide" Target="slide64.xml"/><Relationship Id="rId42" Type="http://schemas.openxmlformats.org/officeDocument/2006/relationships/slide" Target="slide65.xml"/><Relationship Id="rId43" Type="http://schemas.openxmlformats.org/officeDocument/2006/relationships/slide" Target="slide66.xml"/><Relationship Id="rId44" Type="http://schemas.openxmlformats.org/officeDocument/2006/relationships/slide" Target="slide67.xml"/><Relationship Id="rId45" Type="http://schemas.openxmlformats.org/officeDocument/2006/relationships/slide" Target=""/><Relationship Id="rId46" Type="http://schemas.openxmlformats.org/officeDocument/2006/relationships/slide" Target=""/><Relationship Id="rId4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3.xml"/><Relationship Id="rId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5.xml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6.xml"/><Relationship Id="rId4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7.xml"/><Relationship Id="rId4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46.xml"/><Relationship Id="rId5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47.xml"/><Relationship Id="rId5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9.xml"/><Relationship Id="rId4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7.xml"/><Relationship Id="rId5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60.xml"/><Relationship Id="rId5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8.xml"/><Relationship Id="rId3" Type="http://schemas.openxmlformats.org/officeDocument/2006/relationships/slideLayout" Target="../slideLayouts/slideLayout7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69.xml"/><Relationship Id="rId5" Type="http://schemas.openxmlformats.org/officeDocument/2006/relationships/slideLayout" Target="../slideLayouts/slideLayout7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7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71.xml"/><Relationship Id="rId5" Type="http://schemas.openxmlformats.org/officeDocument/2006/relationships/slideLayout" Target="../slideLayouts/slideLayout7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72.xml"/><Relationship Id="rId5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3">
            <a:hlinkClick r:id="rId2" action="ppaction://hlinksldjump"/>
          </p:cNvPr>
          <p:cNvSpPr/>
          <p:nvPr/>
        </p:nvSpPr>
        <p:spPr>
          <a:xfrm>
            <a:off x="838080" y="1981080"/>
            <a:ext cx="838440" cy="609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4">
            <a:hlinkClick r:id="rId3" action="ppaction://hlinksldjump"/>
          </p:cNvPr>
          <p:cNvSpPr/>
          <p:nvPr/>
        </p:nvSpPr>
        <p:spPr>
          <a:xfrm>
            <a:off x="838080" y="274320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5">
            <a:hlinkClick r:id="rId4" action="ppaction://hlinksldjump"/>
          </p:cNvPr>
          <p:cNvSpPr/>
          <p:nvPr/>
        </p:nvSpPr>
        <p:spPr>
          <a:xfrm>
            <a:off x="838080" y="350532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6">
            <a:hlinkClick r:id="rId5" action="ppaction://hlinksldjump"/>
          </p:cNvPr>
          <p:cNvSpPr/>
          <p:nvPr/>
        </p:nvSpPr>
        <p:spPr>
          <a:xfrm>
            <a:off x="838080" y="4267080"/>
            <a:ext cx="838440" cy="609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7">
            <a:hlinkClick r:id="rId6" action="ppaction://hlinksldjump"/>
          </p:cNvPr>
          <p:cNvSpPr/>
          <p:nvPr/>
        </p:nvSpPr>
        <p:spPr>
          <a:xfrm>
            <a:off x="2127600" y="1371600"/>
            <a:ext cx="110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a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8">
            <a:hlinkClick r:id="rId7" action="ppaction://hlinksldjump"/>
          </p:cNvPr>
          <p:cNvSpPr/>
          <p:nvPr/>
        </p:nvSpPr>
        <p:spPr>
          <a:xfrm>
            <a:off x="3432960" y="15238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9">
            <a:hlinkClick r:id="rId8" action="ppaction://hlinksldjump"/>
          </p:cNvPr>
          <p:cNvSpPr/>
          <p:nvPr/>
        </p:nvSpPr>
        <p:spPr>
          <a:xfrm>
            <a:off x="4722120" y="1371600"/>
            <a:ext cx="120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les’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">
            <a:hlinkClick r:id="rId9" action="ppaction://hlinksldjump"/>
          </p:cNvPr>
          <p:cNvSpPr/>
          <p:nvPr/>
        </p:nvSpPr>
        <p:spPr>
          <a:xfrm>
            <a:off x="5863680" y="13716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1">
            <a:hlinkClick r:id="rId10" action="ppaction://hlinksldjump"/>
          </p:cNvPr>
          <p:cNvSpPr/>
          <p:nvPr/>
        </p:nvSpPr>
        <p:spPr>
          <a:xfrm>
            <a:off x="7314480" y="1371600"/>
            <a:ext cx="112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MT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ld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8200" y="240840"/>
            <a:ext cx="8037360" cy="10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Weather: Section 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4" name="Text Box 13">
            <a:hlinkClick r:id="rId12" action="ppaction://hlinksldjump"/>
          </p:cNvPr>
          <p:cNvSpPr/>
          <p:nvPr/>
        </p:nvSpPr>
        <p:spPr>
          <a:xfrm>
            <a:off x="826200" y="137160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14">
            <a:hlinkClick r:id="rId13" action="ppaction://hlinksldjump"/>
          </p:cNvPr>
          <p:cNvSpPr/>
          <p:nvPr/>
        </p:nvSpPr>
        <p:spPr>
          <a:xfrm>
            <a:off x="838080" y="502920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5">
            <a:hlinkClick r:id="rId14" action="ppaction://hlinksldjump"/>
          </p:cNvPr>
          <p:cNvSpPr/>
          <p:nvPr/>
        </p:nvSpPr>
        <p:spPr>
          <a:xfrm>
            <a:off x="838080" y="579132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6">
            <a:hlinkClick r:id="rId15" action="ppaction://hlinksldjump"/>
          </p:cNvPr>
          <p:cNvSpPr/>
          <p:nvPr/>
        </p:nvSpPr>
        <p:spPr>
          <a:xfrm>
            <a:off x="2133720" y="1981080"/>
            <a:ext cx="8380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7">
            <a:hlinkClick r:id="rId16" action="ppaction://hlinksldjump"/>
          </p:cNvPr>
          <p:cNvSpPr/>
          <p:nvPr/>
        </p:nvSpPr>
        <p:spPr>
          <a:xfrm>
            <a:off x="2133720" y="274320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18">
            <a:hlinkClick r:id="rId17" action="ppaction://hlinksldjump"/>
          </p:cNvPr>
          <p:cNvSpPr/>
          <p:nvPr/>
        </p:nvSpPr>
        <p:spPr>
          <a:xfrm>
            <a:off x="2133720" y="350532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19">
            <a:hlinkClick r:id="rId18" action="ppaction://hlinksldjump"/>
          </p:cNvPr>
          <p:cNvSpPr/>
          <p:nvPr/>
        </p:nvSpPr>
        <p:spPr>
          <a:xfrm>
            <a:off x="2133720" y="4267080"/>
            <a:ext cx="8380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20">
            <a:hlinkClick r:id="rId19" action="ppaction://hlinksldjump"/>
          </p:cNvPr>
          <p:cNvSpPr/>
          <p:nvPr/>
        </p:nvSpPr>
        <p:spPr>
          <a:xfrm>
            <a:off x="2133720" y="502920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21">
            <a:hlinkClick r:id="rId20" action="ppaction://hlinksldjump"/>
          </p:cNvPr>
          <p:cNvSpPr/>
          <p:nvPr/>
        </p:nvSpPr>
        <p:spPr>
          <a:xfrm>
            <a:off x="2133720" y="579132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22">
            <a:hlinkClick r:id="rId21" action="ppaction://hlinksldjump"/>
          </p:cNvPr>
          <p:cNvSpPr/>
          <p:nvPr/>
        </p:nvSpPr>
        <p:spPr>
          <a:xfrm>
            <a:off x="3429000" y="1981080"/>
            <a:ext cx="83808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23">
            <a:hlinkClick r:id="rId22" action="ppaction://hlinksldjump"/>
          </p:cNvPr>
          <p:cNvSpPr/>
          <p:nvPr/>
        </p:nvSpPr>
        <p:spPr>
          <a:xfrm>
            <a:off x="3429000" y="274320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24">
            <a:hlinkClick r:id="rId23" action="ppaction://hlinksldjump"/>
          </p:cNvPr>
          <p:cNvSpPr/>
          <p:nvPr/>
        </p:nvSpPr>
        <p:spPr>
          <a:xfrm>
            <a:off x="3429000" y="350532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25">
            <a:hlinkClick r:id="rId24" action="ppaction://hlinksldjump"/>
          </p:cNvPr>
          <p:cNvSpPr/>
          <p:nvPr/>
        </p:nvSpPr>
        <p:spPr>
          <a:xfrm>
            <a:off x="3429000" y="4267080"/>
            <a:ext cx="83808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26">
            <a:hlinkClick r:id="rId25" action="ppaction://hlinksldjump"/>
          </p:cNvPr>
          <p:cNvSpPr/>
          <p:nvPr/>
        </p:nvSpPr>
        <p:spPr>
          <a:xfrm>
            <a:off x="3429000" y="502920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27">
            <a:hlinkClick r:id="rId26" action="ppaction://hlinksldjump"/>
          </p:cNvPr>
          <p:cNvSpPr/>
          <p:nvPr/>
        </p:nvSpPr>
        <p:spPr>
          <a:xfrm>
            <a:off x="3429000" y="579132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28">
            <a:hlinkClick r:id="rId27" action="ppaction://hlinksldjump"/>
          </p:cNvPr>
          <p:cNvSpPr/>
          <p:nvPr/>
        </p:nvSpPr>
        <p:spPr>
          <a:xfrm>
            <a:off x="4724280" y="1981080"/>
            <a:ext cx="8384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29">
            <a:hlinkClick r:id="rId28" action="ppaction://hlinksldjump"/>
          </p:cNvPr>
          <p:cNvSpPr/>
          <p:nvPr/>
        </p:nvSpPr>
        <p:spPr>
          <a:xfrm>
            <a:off x="4724280" y="274320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30">
            <a:hlinkClick r:id="rId29" action="ppaction://hlinksldjump"/>
          </p:cNvPr>
          <p:cNvSpPr/>
          <p:nvPr/>
        </p:nvSpPr>
        <p:spPr>
          <a:xfrm>
            <a:off x="4724280" y="350532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31">
            <a:hlinkClick r:id="rId30" action="ppaction://hlinksldjump"/>
          </p:cNvPr>
          <p:cNvSpPr/>
          <p:nvPr/>
        </p:nvSpPr>
        <p:spPr>
          <a:xfrm>
            <a:off x="4724280" y="4267080"/>
            <a:ext cx="8384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32">
            <a:hlinkClick r:id="rId31" action="ppaction://hlinksldjump"/>
          </p:cNvPr>
          <p:cNvSpPr/>
          <p:nvPr/>
        </p:nvSpPr>
        <p:spPr>
          <a:xfrm>
            <a:off x="4724280" y="502920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33">
            <a:hlinkClick r:id="rId32" action="ppaction://hlinksldjump"/>
          </p:cNvPr>
          <p:cNvSpPr/>
          <p:nvPr/>
        </p:nvSpPr>
        <p:spPr>
          <a:xfrm>
            <a:off x="4724280" y="579132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34">
            <a:hlinkClick r:id="rId33" action="ppaction://hlinksldjump"/>
          </p:cNvPr>
          <p:cNvSpPr/>
          <p:nvPr/>
        </p:nvSpPr>
        <p:spPr>
          <a:xfrm>
            <a:off x="6019920" y="1981080"/>
            <a:ext cx="838080" cy="60984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35">
            <a:hlinkClick r:id="rId34" action="ppaction://hlinksldjump"/>
          </p:cNvPr>
          <p:cNvSpPr/>
          <p:nvPr/>
        </p:nvSpPr>
        <p:spPr>
          <a:xfrm>
            <a:off x="6019920" y="274320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36">
            <a:hlinkClick r:id="rId35" action="ppaction://hlinksldjump"/>
          </p:cNvPr>
          <p:cNvSpPr/>
          <p:nvPr/>
        </p:nvSpPr>
        <p:spPr>
          <a:xfrm>
            <a:off x="6019920" y="350532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37">
            <a:hlinkClick r:id="rId36" action="ppaction://hlinksldjump"/>
          </p:cNvPr>
          <p:cNvSpPr/>
          <p:nvPr/>
        </p:nvSpPr>
        <p:spPr>
          <a:xfrm>
            <a:off x="6019920" y="4267080"/>
            <a:ext cx="838080" cy="60984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38">
            <a:hlinkClick r:id="rId37" action="ppaction://hlinksldjump"/>
          </p:cNvPr>
          <p:cNvSpPr/>
          <p:nvPr/>
        </p:nvSpPr>
        <p:spPr>
          <a:xfrm>
            <a:off x="6019920" y="502920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39">
            <a:hlinkClick r:id="rId38" action="ppaction://hlinksldjump"/>
          </p:cNvPr>
          <p:cNvSpPr/>
          <p:nvPr/>
        </p:nvSpPr>
        <p:spPr>
          <a:xfrm>
            <a:off x="6019920" y="579132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40">
            <a:hlinkClick r:id="rId39" action="ppaction://hlinksldjump"/>
          </p:cNvPr>
          <p:cNvSpPr/>
          <p:nvPr/>
        </p:nvSpPr>
        <p:spPr>
          <a:xfrm>
            <a:off x="7315200" y="1981080"/>
            <a:ext cx="83808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41">
            <a:hlinkClick r:id="rId40" action="ppaction://hlinksldjump"/>
          </p:cNvPr>
          <p:cNvSpPr/>
          <p:nvPr/>
        </p:nvSpPr>
        <p:spPr>
          <a:xfrm>
            <a:off x="7315200" y="274320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42">
            <a:hlinkClick r:id="rId41" action="ppaction://hlinksldjump"/>
          </p:cNvPr>
          <p:cNvSpPr/>
          <p:nvPr/>
        </p:nvSpPr>
        <p:spPr>
          <a:xfrm>
            <a:off x="7315200" y="350532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43">
            <a:hlinkClick r:id="rId42" action="ppaction://hlinksldjump"/>
          </p:cNvPr>
          <p:cNvSpPr/>
          <p:nvPr/>
        </p:nvSpPr>
        <p:spPr>
          <a:xfrm>
            <a:off x="7315200" y="4267080"/>
            <a:ext cx="83808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44">
            <a:hlinkClick r:id="rId43" action="ppaction://hlinksldjump"/>
          </p:cNvPr>
          <p:cNvSpPr/>
          <p:nvPr/>
        </p:nvSpPr>
        <p:spPr>
          <a:xfrm>
            <a:off x="7315200" y="502920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45">
            <a:hlinkClick r:id="rId44" action="ppaction://hlinksldjump"/>
          </p:cNvPr>
          <p:cNvSpPr/>
          <p:nvPr/>
        </p:nvSpPr>
        <p:spPr>
          <a:xfrm>
            <a:off x="7315200" y="579132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6">
            <a:hlinkClick r:id="rId45" action="ppaction://hlinksldjump"/>
          </p:cNvPr>
          <p:cNvSpPr/>
          <p:nvPr/>
        </p:nvSpPr>
        <p:spPr>
          <a:xfrm flipH="1">
            <a:off x="1066680" y="6477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7">
            <a:hlinkClick r:id="rId46" action="ppaction://hlinksldjump"/>
          </p:cNvPr>
          <p:cNvSpPr/>
          <p:nvPr/>
        </p:nvSpPr>
        <p:spPr>
          <a:xfrm>
            <a:off x="1221840" y="65214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>
            <a:hlinkClick r:id="rId1" action="ppaction://hlinksldjump"/>
          </p:cNvPr>
          <p:cNvSpPr/>
          <p:nvPr/>
        </p:nvSpPr>
        <p:spPr>
          <a:xfrm>
            <a:off x="0" y="-30492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3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286000" y="3200400"/>
            <a:ext cx="4952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proportional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melting point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4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5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1600200" y="2743200"/>
            <a:ext cx="5105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temperature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6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1752480" y="2819520"/>
            <a:ext cx="586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kinetic molecular theory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 -1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4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1143000" y="1981080"/>
            <a:ext cx="69343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curved-shaped current of high altitude wind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 - 2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1676520" y="2209680"/>
            <a:ext cx="6248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shape of the jet stream coincides with the contour lines of this propert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- 3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1295280" y="1981080"/>
            <a:ext cx="6858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arm and cold fronts are located near areas of ____ pressur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 - 4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1295280" y="22096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1447920" y="2133720"/>
            <a:ext cx="6476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No clouds near areas of ____ pressure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 - 5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1752480" y="2286000"/>
            <a:ext cx="5715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Clouds are more likely to form near thes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- 6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1447920" y="205740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Draw a symbol for a cold front: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1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92880" y="3780000"/>
            <a:ext cx="3679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914400" y="251460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ouds, winds, temperature, 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cipitation in a region in a given time; caused by physical changes in the atmospher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: 1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1447920" y="2590920"/>
            <a:ext cx="60958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Times New Roman"/>
              </a:rPr>
              <a:t>What is the jet stream?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eather Maps - 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2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5"/>
          <p:cNvSpPr/>
          <p:nvPr/>
        </p:nvSpPr>
        <p:spPr>
          <a:xfrm>
            <a:off x="1295280" y="2514600"/>
            <a:ext cx="54104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is temperature?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eather Maps: 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3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1828800" y="236232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low pressure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: 4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1828800" y="251460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high pressure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>
            <a:hlinkClick r:id="rId1" action="ppaction://hlinksldjump"/>
          </p:cNvPr>
          <p:cNvSpPr/>
          <p:nvPr/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- 5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1219320" y="2743200"/>
            <a:ext cx="723888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are fronts? 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Weather Maps: 6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5"/>
          <p:cNvSpPr/>
          <p:nvPr/>
        </p:nvSpPr>
        <p:spPr>
          <a:xfrm>
            <a:off x="2971800" y="1828800"/>
            <a:ext cx="518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Picture 7" descr=""/>
          <p:cNvPicPr/>
          <p:nvPr/>
        </p:nvPicPr>
        <p:blipFill>
          <a:blip r:embed="rId4"/>
          <a:stretch/>
        </p:blipFill>
        <p:spPr>
          <a:xfrm>
            <a:off x="2514600" y="2666880"/>
            <a:ext cx="27432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Density- 1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2133720" y="190512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formula for densit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2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6"/>
          <p:cNvSpPr/>
          <p:nvPr/>
        </p:nvSpPr>
        <p:spPr>
          <a:xfrm>
            <a:off x="1752480" y="1523880"/>
            <a:ext cx="7010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2819520" y="1523880"/>
            <a:ext cx="527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___ of a line of mass versus volume equals densit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3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3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2133720" y="1676520"/>
            <a:ext cx="678168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Density value for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Liquid water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4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7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2438280" y="2133720"/>
            <a:ext cx="670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Least dense form of precipitatio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2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1219320" y="22860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nge in matter between solid, liquid, and gas form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5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1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1447920" y="2286000"/>
            <a:ext cx="769608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ich is more dense: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10 mL of snow or 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10 mL of ice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6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2362320" y="1523880"/>
            <a:ext cx="5867280" cy="45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25 mL of ice melts (density of ice is 0.92 g/mL), what is the resulting volume of liquid wat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1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9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2666880" y="2133720"/>
            <a:ext cx="5791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d = m/V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2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3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1752480" y="2286000"/>
            <a:ext cx="701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slope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3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7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762120" y="2590920"/>
            <a:ext cx="723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1.00 g/mL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4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1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5"/>
          <p:cNvSpPr/>
          <p:nvPr/>
        </p:nvSpPr>
        <p:spPr>
          <a:xfrm>
            <a:off x="457200" y="29718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5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5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5"/>
          <p:cNvSpPr/>
          <p:nvPr/>
        </p:nvSpPr>
        <p:spPr>
          <a:xfrm>
            <a:off x="914400" y="25909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ice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- 6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9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762120" y="2438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23 m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75780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3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5">
            <a:hlinkClick r:id="" action="ppaction://hlinkshowjump?jump=previousslide"/>
          </p:cNvPr>
          <p:cNvSpPr/>
          <p:nvPr/>
        </p:nvSpPr>
        <p:spPr>
          <a:xfrm>
            <a:off x="1219320" y="5486400"/>
            <a:ext cx="3809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1295280" y="2514600"/>
            <a:ext cx="624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emperature scale that must be used regarding Charles’s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2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8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5">
            <a:hlinkClick r:id="" action="ppaction://hlinkshowjump?jump=previousslide"/>
          </p:cNvPr>
          <p:cNvSpPr/>
          <p:nvPr/>
        </p:nvSpPr>
        <p:spPr>
          <a:xfrm>
            <a:off x="1066680" y="4952880"/>
            <a:ext cx="49532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1371600" y="23623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wo variables related by Charles’s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3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5">
            <a:hlinkClick r:id="" action="ppaction://hlinkshowjump?jump=previousslide"/>
          </p:cNvPr>
          <p:cNvSpPr/>
          <p:nvPr/>
        </p:nvSpPr>
        <p:spPr>
          <a:xfrm>
            <a:off x="609480" y="3809880"/>
            <a:ext cx="5029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1219320" y="251460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ariables related so that when one increases, the other increases; can multiply one variable by a constant to obtain the other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3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3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5">
            <a:hlinkClick r:id="" action="ppaction://hlinkshowjump?jump=previousslide"/>
          </p:cNvPr>
          <p:cNvSpPr/>
          <p:nvPr/>
        </p:nvSpPr>
        <p:spPr>
          <a:xfrm>
            <a:off x="914400" y="502920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6"/>
          <p:cNvSpPr/>
          <p:nvPr/>
        </p:nvSpPr>
        <p:spPr>
          <a:xfrm>
            <a:off x="1295280" y="2438280"/>
            <a:ext cx="731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60°C = ___ K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4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8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Rectangle 5">
            <a:hlinkClick r:id="" action="ppaction://hlinkshowjump?jump=previousslide"/>
          </p:cNvPr>
          <p:cNvSpPr/>
          <p:nvPr/>
        </p:nvSpPr>
        <p:spPr>
          <a:xfrm>
            <a:off x="1295280" y="426708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609480" y="23623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bsolute z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5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3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Rectangle 5">
            <a:hlinkClick r:id="" action="ppaction://hlinkshowjump?jump=previousslide"/>
          </p:cNvPr>
          <p:cNvSpPr/>
          <p:nvPr/>
        </p:nvSpPr>
        <p:spPr>
          <a:xfrm>
            <a:off x="1295280" y="3886200"/>
            <a:ext cx="5105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523880" y="2438280"/>
            <a:ext cx="586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will happen to the volume of a gas if the Kelvin temperature dou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les’s Law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- 6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5">
            <a:hlinkClick r:id="" action="ppaction://hlinkshowjump?jump=previousslide"/>
          </p:cNvPr>
          <p:cNvSpPr/>
          <p:nvPr/>
        </p:nvSpPr>
        <p:spPr>
          <a:xfrm>
            <a:off x="1219320" y="4876920"/>
            <a:ext cx="48765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6"/>
          <p:cNvSpPr/>
          <p:nvPr/>
        </p:nvSpPr>
        <p:spPr>
          <a:xfrm>
            <a:off x="1295280" y="243828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Kelvin temperature of a gas if it triples in volume from a starting temperature of 100 K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1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3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5"/>
          <p:cNvSpPr/>
          <p:nvPr/>
        </p:nvSpPr>
        <p:spPr>
          <a:xfrm>
            <a:off x="838080" y="2666880"/>
            <a:ext cx="7543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Kelvi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- 2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7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914400" y="2514600"/>
            <a:ext cx="716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Kelvin temperature and volume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2">
            <a:hlinkClick r:id="rId1" action="ppaction://hlinksldjump"/>
          </p:cNvPr>
          <p:cNvSpPr/>
          <p:nvPr/>
        </p:nvSpPr>
        <p:spPr>
          <a:xfrm>
            <a:off x="-304920" y="-38088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3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1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 Box 5"/>
          <p:cNvSpPr/>
          <p:nvPr/>
        </p:nvSpPr>
        <p:spPr>
          <a:xfrm>
            <a:off x="1828800" y="2819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 Box 6"/>
          <p:cNvSpPr/>
          <p:nvPr/>
        </p:nvSpPr>
        <p:spPr>
          <a:xfrm>
            <a:off x="990720" y="23623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333 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4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6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5"/>
          <p:cNvSpPr/>
          <p:nvPr/>
        </p:nvSpPr>
        <p:spPr>
          <a:xfrm>
            <a:off x="685800" y="22860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0 K, lower limit to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5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0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1143000" y="23623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volume doub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Charles’s Law-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6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4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5"/>
          <p:cNvSpPr/>
          <p:nvPr/>
        </p:nvSpPr>
        <p:spPr>
          <a:xfrm>
            <a:off x="990720" y="26668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300 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4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5">
            <a:hlinkClick r:id="" action="ppaction://hlinkshowjump?jump=previousslide"/>
          </p:cNvPr>
          <p:cNvSpPr/>
          <p:nvPr/>
        </p:nvSpPr>
        <p:spPr>
          <a:xfrm>
            <a:off x="839880" y="3728880"/>
            <a:ext cx="4954320" cy="6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838080" y="236232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mperature at which a substance changes from the solid state to the liquid stat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- 1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1219320" y="22096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oiling point of water in Celsius and Fahrenhe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2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5"/>
          <p:cNvSpPr/>
          <p:nvPr/>
        </p:nvSpPr>
        <p:spPr>
          <a:xfrm>
            <a:off x="914400" y="24382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instrument used to measure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3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1219320" y="22860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appens to the liquid in a thermometer as it is hea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4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914400" y="2438280"/>
            <a:ext cx="71629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he temperature scale(s) containing the largest size for a degree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5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762120" y="2057400"/>
            <a:ext cx="7238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he type of energy of a substance indicated by temperatur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6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6"/>
          <p:cNvSpPr/>
          <p:nvPr/>
        </p:nvSpPr>
        <p:spPr>
          <a:xfrm>
            <a:off x="1905120" y="2362320"/>
            <a:ext cx="53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oretically the lowest possible temper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1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295280" y="236232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0°C/212°F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2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5"/>
          <p:cNvSpPr/>
          <p:nvPr/>
        </p:nvSpPr>
        <p:spPr>
          <a:xfrm>
            <a:off x="1447920" y="2819520"/>
            <a:ext cx="556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a thermomet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3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914400" y="2743200"/>
            <a:ext cx="6934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n increase in height and volume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4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5"/>
          <p:cNvSpPr/>
          <p:nvPr/>
        </p:nvSpPr>
        <p:spPr>
          <a:xfrm>
            <a:off x="1143000" y="25909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°C or K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5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5">
            <a:hlinkClick r:id="" action="ppaction://hlinkshowjump?jump=previousslide"/>
          </p:cNvPr>
          <p:cNvSpPr/>
          <p:nvPr/>
        </p:nvSpPr>
        <p:spPr>
          <a:xfrm>
            <a:off x="838080" y="403848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1371600" y="281952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asure of the average kinetic energy of a sampl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5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1066680" y="2590920"/>
            <a:ext cx="670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kinetic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Temperature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6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 Box 5"/>
          <p:cNvSpPr/>
          <p:nvPr/>
        </p:nvSpPr>
        <p:spPr>
          <a:xfrm>
            <a:off x="1371600" y="2286000"/>
            <a:ext cx="5638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bsolute zero or 0 K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KMT- 1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Rectangle 4">
            <a:hlinkClick r:id="rId2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6"/>
          <p:cNvSpPr/>
          <p:nvPr/>
        </p:nvSpPr>
        <p:spPr>
          <a:xfrm>
            <a:off x="2438280" y="2819520"/>
            <a:ext cx="480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8"/>
          <p:cNvSpPr/>
          <p:nvPr/>
        </p:nvSpPr>
        <p:spPr>
          <a:xfrm>
            <a:off x="1279440" y="2550960"/>
            <a:ext cx="5883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molecules of a gas are in constant ____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KMT- 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6"/>
          <p:cNvSpPr/>
          <p:nvPr/>
        </p:nvSpPr>
        <p:spPr>
          <a:xfrm>
            <a:off x="1676520" y="281952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auses of a gas particle to change direction from its straight-line pa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KMT-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 3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1676520" y="2438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re the speeds of gas particles the same or different at a given temperature?  Explain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KMT- 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4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1676520" y="27432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gas particles change if the temperature is increas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KMT- 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5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 Box 6"/>
          <p:cNvSpPr/>
          <p:nvPr/>
        </p:nvSpPr>
        <p:spPr>
          <a:xfrm>
            <a:off x="990720" y="2286000"/>
            <a:ext cx="7315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Increased or decreased numbers of these affect the pressure of a ga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KMT- 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6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828800" y="259092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needed in order to have wea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1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5"/>
          <p:cNvSpPr/>
          <p:nvPr/>
        </p:nvSpPr>
        <p:spPr>
          <a:xfrm>
            <a:off x="1676520" y="2590920"/>
            <a:ext cx="5790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motion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2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762120" y="1828800"/>
            <a:ext cx="601956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are collisions with other gas molecules and the walls of the container?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6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5">
            <a:hlinkClick r:id="" action="ppaction://hlinkshowjump?jump=previousslide"/>
          </p:cNvPr>
          <p:cNvSpPr/>
          <p:nvPr/>
        </p:nvSpPr>
        <p:spPr>
          <a:xfrm>
            <a:off x="685800" y="3505320"/>
            <a:ext cx="48769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838080" y="2057400"/>
            <a:ext cx="7239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es that gases are composed of tiny particles in continuous, random, straight-line motion and collide with each other and the walls of the container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3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 Box 5"/>
          <p:cNvSpPr/>
          <p:nvPr/>
        </p:nvSpPr>
        <p:spPr>
          <a:xfrm>
            <a:off x="2133720" y="2514600"/>
            <a:ext cx="510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different speed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4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1295280" y="2133720"/>
            <a:ext cx="701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moving faster, causing more collision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5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5"/>
          <p:cNvSpPr/>
          <p:nvPr/>
        </p:nvSpPr>
        <p:spPr>
          <a:xfrm>
            <a:off x="1371600" y="2514600"/>
            <a:ext cx="6629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collision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MT- 6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Text Box 5"/>
          <p:cNvSpPr/>
          <p:nvPr/>
        </p:nvSpPr>
        <p:spPr>
          <a:xfrm>
            <a:off x="1676520" y="29718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tmo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1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143000" y="2438280"/>
            <a:ext cx="723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weath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2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1143000" y="2514600"/>
            <a:ext cx="701028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a phase chang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(physical change)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23:49:27Z</dcterms:created>
  <dc:creator>Great Valley High School</dc:creator>
  <dc:description/>
  <dc:language>en-US</dc:language>
  <cp:lastModifiedBy>Great Valley High School</cp:lastModifiedBy>
  <dcterms:modified xsi:type="dcterms:W3CDTF">2012-02-14T14:20:57Z</dcterms:modified>
  <cp:revision>45</cp:revision>
  <dc:subject/>
  <dc:title>Thermochemistry Jeopardy</dc:title>
</cp:coreProperties>
</file>